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CCA-2F37-469E-9147-4396B074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4BF-7DD1-4702-A4A7-6415B7AF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CD8-D57D-4D6A-BFA4-A8C425D4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E2E-A93F-4798-B6A4-B7686333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E71A-8E50-4897-9EF0-1EB90E2A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1F0A-8BA1-4202-AD2A-54D9B052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363C-63AB-4E86-AF6E-C59B8209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CC56-B6F8-4FE8-BF08-91670DD1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05FC-BBAA-4106-BF7F-230D70B7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26D0-EC56-4742-881B-475893E0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13B5-D723-4B2B-949A-B123985D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B95-56C6-43E5-B864-82DD9ADD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CC12-7EF8-4670-B49B-DAACE37B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4DAB-FB11-483C-94E8-9F4DA2E4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D36C-125E-46D7-B31A-1404D526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D974-2B5D-4284-A7D1-F4087049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4EBB-0D2E-413D-809B-0EDDB5D2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763-4F9E-4D68-AF1D-3203A9E9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58B-DD0F-4C13-9674-C1EED80F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A30-8D3F-4D59-8A04-41920518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53A-7D16-445C-8B75-1239A73F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7FF-D42C-41A5-BF00-097117CE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49B-95A4-4308-AE54-8B5ABFFE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322-E57C-4191-85ED-8D274413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8EA0-5179-46ED-8390-3DD848C5A02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393-16BD-49F7-8D50-E447B266BDE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03280" y="5805000"/>
            <a:ext cx="640080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Автор: Истомина Над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835280" y="5684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Impact"/>
              </a:rPr>
              <a:t>Тема учебного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1187280" y="836640"/>
            <a:ext cx="71298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трана Дробе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85" name="Picture 14" descr="school19-08"/>
          <p:cNvPicPr/>
          <p:nvPr/>
        </p:nvPicPr>
        <p:blipFill>
          <a:blip r:embed="rId1"/>
          <a:stretch/>
        </p:blipFill>
        <p:spPr>
          <a:xfrm>
            <a:off x="2195640" y="2924280"/>
            <a:ext cx="5040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ffff00"/>
                </a:solidFill>
                <a:latin typeface="Arial"/>
              </a:rPr>
              <a:t>Желаем Удачи!!!!!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5" descr="school02-12"/>
          <p:cNvPicPr/>
          <p:nvPr/>
        </p:nvPicPr>
        <p:blipFill>
          <a:blip r:embed="rId1"/>
          <a:stretch/>
        </p:blipFill>
        <p:spPr>
          <a:xfrm>
            <a:off x="3564000" y="3933720"/>
            <a:ext cx="30099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004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Можно ли   измерить мир?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большие единицы измерени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( железная дорого, металлургия, космос , и т. 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маленькие измерени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(химия, аптека, биология, и т. 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55a1f737e21f8f9b929f2d26"/>
          <p:cNvPicPr/>
          <p:nvPr/>
        </p:nvPicPr>
        <p:blipFill>
          <a:blip r:embed="rId1"/>
          <a:stretch/>
        </p:blipFill>
        <p:spPr>
          <a:xfrm>
            <a:off x="395280" y="260280"/>
            <a:ext cx="338472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м = _______ с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5 км =______ 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0 т =______ к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5 кг =______ 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 см = ______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1981080" y="189000"/>
            <a:ext cx="5437440" cy="135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chool02-14"/>
          <p:cNvPicPr/>
          <p:nvPr/>
        </p:nvPicPr>
        <p:blipFill>
          <a:blip r:embed="rId2"/>
          <a:stretch/>
        </p:blipFill>
        <p:spPr>
          <a:xfrm>
            <a:off x="4788000" y="1844640"/>
            <a:ext cx="398304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350200" cy="127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1 м = 100 с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1 см – сотая часть мет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7" descr="school06-17"/>
          <p:cNvPicPr/>
          <p:nvPr/>
        </p:nvPicPr>
        <p:blipFill>
          <a:blip r:embed="rId2"/>
          <a:stretch/>
        </p:blipFill>
        <p:spPr>
          <a:xfrm>
            <a:off x="179280" y="1916280"/>
            <a:ext cx="2124360" cy="458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school02-30"/>
          <p:cNvPicPr/>
          <p:nvPr/>
        </p:nvPicPr>
        <p:blipFill>
          <a:blip r:embed="rId3"/>
          <a:stretch/>
        </p:blipFill>
        <p:spPr>
          <a:xfrm>
            <a:off x="5940360" y="3789360"/>
            <a:ext cx="299088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8358120" cy="1816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0" y="1499760"/>
            <a:ext cx="6572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- Как и когда возникли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- 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- Как  выполняются действия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7" descr="school10-09"/>
          <p:cNvPicPr/>
          <p:nvPr/>
        </p:nvPicPr>
        <p:blipFill>
          <a:blip r:embed="rId2"/>
          <a:stretch/>
        </p:blipFill>
        <p:spPr>
          <a:xfrm>
            <a:off x="6562800" y="1928880"/>
            <a:ext cx="258120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324000" y="40176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Для начала разделимся на небольшие коман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26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70c0"/>
                </a:solidFill>
                <a:latin typeface="Book Antiqua"/>
              </a:rPr>
              <a:t>Историк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26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41837"/>
                </a:solidFill>
                <a:latin typeface="Book Antiqua"/>
              </a:rPr>
              <a:t>Исследовател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924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26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Book Antiqua"/>
              </a:rPr>
              <a:t>Теоретик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school02-21"/>
          <p:cNvPicPr/>
          <p:nvPr/>
        </p:nvPicPr>
        <p:blipFill>
          <a:blip r:embed="rId2"/>
          <a:stretch/>
        </p:blipFill>
        <p:spPr>
          <a:xfrm>
            <a:off x="5219640" y="2133720"/>
            <a:ext cx="361656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249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6840" y="1599840"/>
            <a:ext cx="5986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Как возникли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В каких  источниках впервые упоминается о дробя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оби!!! Какие они в Древнем Вавилон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Как относились к дробям в Древней Грец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Где впервые стали записывать дроби с помощью числителя и знаменател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6" descr="school02-28"/>
          <p:cNvPicPr/>
          <p:nvPr/>
        </p:nvPicPr>
        <p:blipFill>
          <a:blip r:embed="rId2"/>
          <a:stretch/>
        </p:blipFill>
        <p:spPr>
          <a:xfrm>
            <a:off x="6443640" y="2565360"/>
            <a:ext cx="244800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01760" y="189000"/>
            <a:ext cx="8742240" cy="1231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Люди каких профессий в своей деятельности используют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задачи на дроби они реша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5" descr="school02-11"/>
          <p:cNvPicPr/>
          <p:nvPr/>
        </p:nvPicPr>
        <p:blipFill>
          <a:blip r:embed="rId2"/>
          <a:stretch/>
        </p:blipFill>
        <p:spPr>
          <a:xfrm>
            <a:off x="6696000" y="3213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school19-03"/>
          <p:cNvPicPr/>
          <p:nvPr/>
        </p:nvPicPr>
        <p:blipFill>
          <a:blip r:embed="rId3"/>
          <a:stretch/>
        </p:blipFill>
        <p:spPr>
          <a:xfrm>
            <a:off x="1116000" y="4581360"/>
            <a:ext cx="439272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Как выполнить действие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дроби существу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записываются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равн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л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вычес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умн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дел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5" descr="school19-07"/>
          <p:cNvPicPr/>
          <p:nvPr/>
        </p:nvPicPr>
        <p:blipFill>
          <a:blip r:embed="rId2"/>
          <a:stretch/>
        </p:blipFill>
        <p:spPr>
          <a:xfrm>
            <a:off x="5148360" y="2421000"/>
            <a:ext cx="3786120" cy="400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4:16:59Z</dcterms:created>
  <dc:creator>Admin</dc:creator>
  <dc:description/>
  <dc:language>en-US</dc:language>
  <cp:lastModifiedBy>Admin</cp:lastModifiedBy>
  <dcterms:modified xsi:type="dcterms:W3CDTF">2010-05-28T09:01:14Z</dcterms:modified>
  <cp:revision>31</cp:revision>
  <dc:subject/>
  <dc:title>Главное не в том как накопить больше знаний,- главное в том, чтобы это знание, великое или малое, принадлежало тебе, явилось бы детищем твоих собственных усилий. Р. Роллан</dc:title>
</cp:coreProperties>
</file>